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C01C-3A80-4BD5-8EFD-87CE8A076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D5D5-6B32-4B27-A143-42171B9D8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798-A937-4020-A48F-44911728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764-6E4D-429C-BFB9-415623A2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23A-006C-4C00-9F77-2E63EA4F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DD3-3CBB-42A3-AD6E-3286B832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AE66-0FB7-40A9-AF31-691A3776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BCBA-BD9C-47EA-82C2-28F7B5F8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B547-B337-4420-B983-85A4F4D1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A4FA-CC15-4F2F-B416-B28E982D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B382-7AFC-4783-9D8C-205AA66C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A9BC-A94C-44D4-A256-78DF2D27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12ED-49CD-4925-AC77-822BB93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454-41FF-4846-BC31-3B5685A5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6FFE-D4EC-47DB-8F98-BB4EB868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AF15-88EB-4F67-8C99-E48F0729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AC8D-77B3-45B0-B4F2-A4475447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4BF6-487F-4F43-84CA-B82B3711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12FC-3D0A-4AC2-BFC3-FB78B763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E153-A28E-48FE-A4D6-C7AE8354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8C1D-5D80-4527-91B0-81014F1C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FCC7-A06D-47F8-B352-1DF0F85A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2F79-BF35-40F0-AE63-7ED15982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8BD5-7C38-477F-A9DE-001AA008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3EC-4DCE-4AB2-A3FE-00D90B4B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4DBA-2B84-4C56-9311-757407CE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1047-AF60-44C9-9A3A-11F6FA08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00469-EC61-46B6-B6ED-50111223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E085-3CB7-43EE-B97C-E4A27CC3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E5EB-F27D-42CD-8246-0E88E594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DDA8-F0F0-4093-B1B6-D1FA7863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2F50-EAAC-4329-8D53-118597A8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C583F-A103-4E22-8F2A-CD7646B3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82499-72D1-414B-BB31-592742C2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54F6B-DF50-4382-BBC7-1C4AE2D0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46B-D3B5-4468-B646-F6108577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971E5-566C-4BB6-81E8-C55F7E37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26CC4-6B2F-488C-9EF3-69561407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7BE09-5049-4E45-9F44-4E9F8527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B3D0D-0BB9-4ABF-AD2E-F4C0B2F9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3146-3446-4222-8778-F3E7BE1A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C4C63-BB37-4BCD-A5C8-26181C6B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A683-A6EE-495E-B03A-6EDC06EB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58055-E7F3-425F-B8D3-162DBF27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61DA-8CFF-4167-8305-C9C85A7A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C90FF-5044-4023-819D-B59F2442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283-1FC3-443C-AFD9-5BD0A8A7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51714-487E-4FAB-85C7-8950CE59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01AA9-CC23-40B4-8462-41CA2F1C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F6A7-3F9B-4541-B685-2EC66785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58A78-177A-4D73-AFF3-241D318A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C6624-CCEB-48B5-9A9F-8494918B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B4F09-9A09-42C0-84C6-8D358D2C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00CC0-F3B1-4C83-A176-F0CE7B9F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4D8D0-16AD-4B06-9FD5-D308B463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74534-5DEF-47C4-864F-AD62875C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9D4E6-F6E4-4A3E-BA77-617F37ED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6A1-F06E-4040-AA89-DFD2826F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3B1EA-B52A-4027-A891-C3FECDC3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4A70B-5653-421D-AEE1-C590E558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B009F-ECB6-4EB8-9951-1278C6D8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F9A4F-CFFC-46B2-A3A7-2B7A603D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C0739-35A8-4BDC-9FF9-7DC0A8DF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5BB4B-FB54-485E-9942-F9EA4FFA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F5A76-C8B5-4F72-A389-83202369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AF163-D39C-4AE3-AA84-605B43EB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F99CB-B5BC-4DF3-97DE-AC6F140E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B5531-2DFB-48D1-917C-F2DF4F5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8FF-A362-4CBF-A13D-B08908DE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EB59B-8715-4D4A-B17F-D40ECE97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E7BD2-4CF5-406C-8A97-DE0FB672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E5BCC-7E3C-4A70-8C96-ECCFD3B3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31FF9-A7A3-466E-9DC7-EF586134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C3E57-922C-41EE-AAFD-C94B6110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9D875-7F32-4D74-BAA4-B0065250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9AA66-3DD1-4683-82F9-2B6F7986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EB58D-CA73-40E8-8380-3DF287E1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2B37B-1F53-495F-AE48-8332C90A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8E46D-CF5B-4A09-9BAE-330482DB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BB2-C4DD-4E2A-BFB4-C7A3351A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9F658-CCA5-4FB6-A630-AD564F43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E6DEC-5082-4E11-AFE8-C42A0F5F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EDEDF-8980-4286-8E87-2D9981B4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EE7AE-5188-47E4-B8E5-EC6FEF6B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64874-9CFA-43F1-85AE-C19B6E5D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433CC-95E4-4343-A16B-DEEC3094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3825C-F01B-4A09-845D-FB7FE60F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963D4-23CF-4870-B3B1-1F5F0B83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BB4DD-3D7D-45C6-9ECF-74FC934D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9197C-13E5-44C6-8DDA-D868E672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666-36CC-4C44-87E6-090D473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F8716-8151-457F-8E64-4DA3DF22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CE719-48CB-4C1C-9585-24EE5D00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4FD5D-6338-4881-A705-47F77E7F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15F07-C93B-4C86-87AD-B4C2B763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E0633-5E63-4692-A6AC-D8F8D5C4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355C2-4948-4FFD-BAB8-AE51B9FB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49178-28FC-4A29-B60C-12B83526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BA05-D5A5-44E2-9761-B77C70C3441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19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7A36-8B55-4033-9DD0-8A5D4E135C7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F163-33D2-452C-A043-464150737F1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5AB-6403-4016-BE35-C1EE1EB4682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471C-547D-4C99-9740-F1D1BEBE04D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2BB0-4475-41E5-AB51-2136A400615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9957-A3A8-4F3F-B8C4-3B8DB8DB8CB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Right Triangle 15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Straight Connector 16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E48B-6DE2-4C68-B68F-65726C41C24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689040" y="3889440"/>
            <a:ext cx="8076960" cy="15732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9765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2133720" y="2755800"/>
            <a:ext cx="487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2  Titr"/>
              </a:rPr>
              <a:t>عنوان مقال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در صفحات بعد نيازی به لوگو، آرم دانشگاه و عنوان همايش نمي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زمان ارائه پاورپوينت حداکثر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0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دقيقه است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سعی شود تعداد اسلايدها بيش از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5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اسلايد ن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هر کدام از نويسندگان مقاله مجاز به ارائه مقاله می باشن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20:02:19Z</dcterms:created>
  <dc:creator>sam system</dc:creator>
  <dc:description/>
  <dc:language>en-US</dc:language>
  <cp:lastModifiedBy>User</cp:lastModifiedBy>
  <dcterms:modified xsi:type="dcterms:W3CDTF">2015-12-15T10:14:55Z</dcterms:modified>
  <cp:revision>32</cp:revision>
  <dc:subject/>
  <dc:title>علي شير افروس، استاديار گروه مهندسي آب، دانشگاه آزاد اسلامي واحد دزفول</dc:title>
</cp:coreProperties>
</file>