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21243925" cy="30243463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2204640" y="766800"/>
            <a:ext cx="269388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3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7185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02228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0F2E-5B26-4B5D-A2B7-AFE7438C1BCB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264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4AEE-39A1-4B67-A22E-2F5D12D2987A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205000" y="766800"/>
            <a:ext cx="2693880" cy="383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7A1-0FC0-4D0F-86C2-9B8B70B7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0F3-FDE1-44FC-A1A3-84417E8C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E56-238D-41EF-92CA-61CFF0AC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60E-409B-44F4-B037-FEC110B2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3E3B-9005-4276-B6CC-3A61C10B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E09E-F916-4780-A6ED-F97A0C2E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9856-CA1B-4DBE-A0FB-5498592D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DDF7-A29B-49D2-B671-1BED2545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9A7D-1A53-400E-B95F-D2EAB211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4712-52F3-4D8E-A2DE-065EF884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9DA8-0104-4F5F-8A1C-5F6FCC04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31F-908B-4CB9-A0FF-4E086048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A721-5B9E-41FD-9A1B-94B27BED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5912-7686-42D4-A482-1E896F1C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4E71-3731-42FF-ABC4-576EF405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F914-320D-4B2A-91A8-5898E32A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E31E-0666-4D63-8E44-D0601A0F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17C65-609A-4008-8613-131352D7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0EE5-CF29-490E-B6A7-14C6B4AD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B43AA-EAD9-4D15-BFC8-BC7B9162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8645-4992-43BD-9033-D5D0D910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3D045-7BB9-4530-9B7F-51F1564A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060-D873-440A-8BD7-44B1AD1F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E682-DDAE-4003-B43E-13A4D548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02B81-1630-4E30-B2FE-8BD1F870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AD46D-528C-45E3-9B72-83A0F0FA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46FE9-8D7F-40BD-AF2A-31EEDF23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BDE3-F27F-427D-ADC5-402757AD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81D7A-02F5-4E46-B655-C418464A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C5C57-3E73-410C-8093-19540506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B4771-A273-4618-A6A4-F3D40EF6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F0316-4624-4E0A-916B-2BCAC82B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296C6-40BD-41E5-95A2-48AFB82B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E00-E951-4687-91E5-73023DBE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057E4-132D-4451-BE30-1ABE597D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9027A-0468-4D5E-BB82-40B6181F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D2965-0711-4F1F-85D7-4C63352D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5BA2-199E-487E-9301-6A114768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D13B2-31A1-4A53-9511-434E903B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3D19-1BEC-4F27-930A-B6269245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FF5BB-1B8A-41DB-9C66-D007AE6A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1CCB1-4AE0-49A8-ADD4-8CB18A39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CEDE1-E89A-45C9-9C4D-46EF7AAE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95B-DDAF-4C5B-82C7-9BB8C85A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1CC-206E-4727-AA1D-3C0BEB7D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6C5-2D4E-414D-A8B9-A8C08086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054-6CD3-41A5-8EC3-9697AD51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A6F-B249-4674-A6A9-6B810D34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3BBB-3A67-4654-966B-5194D6F21919}" type="slidenum"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52ED-D336-48FA-A868-E141E3F05B82}" type="slidenum"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6F08-B22F-4D4A-B445-36079AC5B9BE}" type="slidenum"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7354800" y="4885200"/>
            <a:ext cx="12214440" cy="18146880"/>
          </a:xfrm>
          <a:custGeom>
            <a:avLst/>
            <a:gdLst/>
            <a:ahLst/>
            <a:rect l="l" t="t" r="r" b="b"/>
            <a:pathLst>
              <a:path w="12214225" h="18146713">
                <a:moveTo>
                  <a:pt x="0" y="0"/>
                </a:moveTo>
                <a:lnTo>
                  <a:pt x="11768894" y="0"/>
                </a:lnTo>
                <a:lnTo>
                  <a:pt x="12214225" y="445331"/>
                </a:lnTo>
                <a:lnTo>
                  <a:pt x="12214225" y="18146713"/>
                </a:lnTo>
                <a:lnTo>
                  <a:pt x="0" y="181467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ctr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18594360" y="23635080"/>
            <a:ext cx="360360" cy="68580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4120" rIns="294120" tIns="75240" bIns="75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21960" y="25650720"/>
            <a:ext cx="21286800" cy="4592880"/>
          </a:xfrm>
          <a:custGeom>
            <a:avLst/>
            <a:gdLst>
              <a:gd name="textAreaLeft" fmla="*/ 0 w 21286800"/>
              <a:gd name="textAreaRight" fmla="*/ 21287160 w 21286800"/>
              <a:gd name="textAreaTop" fmla="*/ 360 h 4592880"/>
              <a:gd name="textAreaBottom" fmla="*/ 4593600 h 4592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10179000" y="27428040"/>
            <a:ext cx="11063160" cy="2814840"/>
          </a:xfrm>
          <a:custGeom>
            <a:avLst/>
            <a:gdLst>
              <a:gd name="textAreaLeft" fmla="*/ 0 w 11063160"/>
              <a:gd name="textAreaRight" fmla="*/ 11063520 w 11063160"/>
              <a:gd name="textAreaTop" fmla="*/ -360 h 2814840"/>
              <a:gd name="textAreaBottom" fmla="*/ 2814840 h 28148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18763920" y="28030320"/>
            <a:ext cx="141588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B110-B818-452E-B5CF-DE2CFD1796AB}" type="slidenum"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34"/>
          <p:cNvGrpSpPr/>
          <p:nvPr/>
        </p:nvGrpSpPr>
        <p:grpSpPr>
          <a:xfrm>
            <a:off x="264960" y="4680000"/>
            <a:ext cx="20669400" cy="25119000"/>
            <a:chOff x="264960" y="4680000"/>
            <a:chExt cx="20669400" cy="25119000"/>
          </a:xfrm>
        </p:grpSpPr>
        <p:grpSp>
          <p:nvGrpSpPr>
            <p:cNvPr id="203" name="Group 25"/>
            <p:cNvGrpSpPr/>
            <p:nvPr/>
          </p:nvGrpSpPr>
          <p:grpSpPr>
            <a:xfrm>
              <a:off x="264960" y="8768880"/>
              <a:ext cx="20669400" cy="21030120"/>
              <a:chOff x="264960" y="8768880"/>
              <a:chExt cx="20669400" cy="21030120"/>
            </a:xfrm>
          </p:grpSpPr>
          <p:sp>
            <p:nvSpPr>
              <p:cNvPr id="204" name="AutoShape 50"/>
              <p:cNvSpPr/>
              <p:nvPr/>
            </p:nvSpPr>
            <p:spPr>
              <a:xfrm>
                <a:off x="264960" y="8794440"/>
                <a:ext cx="9995040" cy="21001320"/>
              </a:xfrm>
              <a:custGeom>
                <a:avLst/>
                <a:gdLst>
                  <a:gd name="textAreaLeft" fmla="*/ 204840 w 9995040"/>
                  <a:gd name="textAreaRight" fmla="*/ 9790200 w 9995040"/>
                  <a:gd name="textAreaTop" fmla="*/ 204840 h 21001320"/>
                  <a:gd name="textAreaBottom" fmla="*/ 20796480 h 21001320"/>
                </a:gdLst>
                <a:ahLst/>
                <a:rect l="textAreaLeft" t="textAreaTop" r="textAreaRight" b="textAreaBottom"/>
                <a:pathLst>
                  <a:path w="21600" h="45385">
                    <a:moveTo>
                      <a:pt x="1512" y="0"/>
                    </a:moveTo>
                    <a:arcTo wR="1512" hR="1512" stAng="16200000" swAng="-5400000"/>
                    <a:lnTo>
                      <a:pt x="0" y="43873"/>
                    </a:lnTo>
                    <a:arcTo wR="1512" hR="1512" stAng="10800000" swAng="-5400000"/>
                    <a:lnTo>
                      <a:pt x="20088" y="45385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f6f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4"/>
              <p:cNvSpPr/>
              <p:nvPr/>
            </p:nvSpPr>
            <p:spPr>
              <a:xfrm>
                <a:off x="10939320" y="8768880"/>
                <a:ext cx="9995040" cy="21030120"/>
              </a:xfrm>
              <a:custGeom>
                <a:avLst/>
                <a:gdLst>
                  <a:gd name="textAreaLeft" fmla="*/ 204840 w 9995040"/>
                  <a:gd name="textAreaRight" fmla="*/ 9790200 w 9995040"/>
                  <a:gd name="textAreaTop" fmla="*/ 204840 h 21030120"/>
                  <a:gd name="textAreaBottom" fmla="*/ 20825280 h 21030120"/>
                </a:gdLst>
                <a:ahLst/>
                <a:rect l="textAreaLeft" t="textAreaTop" r="textAreaRight" b="textAreaBottom"/>
                <a:pathLst>
                  <a:path w="21600" h="45447">
                    <a:moveTo>
                      <a:pt x="1512" y="0"/>
                    </a:moveTo>
                    <a:arcTo wR="1512" hR="1512" stAng="16200000" swAng="-5400000"/>
                    <a:lnTo>
                      <a:pt x="0" y="43935"/>
                    </a:lnTo>
                    <a:arcTo wR="1512" hR="1512" stAng="10800000" swAng="-5400000"/>
                    <a:lnTo>
                      <a:pt x="20088" y="45447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f6f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Rounded Rectangle 12"/>
            <p:cNvSpPr/>
            <p:nvPr/>
          </p:nvSpPr>
          <p:spPr>
            <a:xfrm>
              <a:off x="3043080" y="4680000"/>
              <a:ext cx="15454440" cy="3873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(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cs typeface="B Titr"/>
                </a:rPr>
                <a:t>عنوان مقاله حداکثر در 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12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 کلمه با قلم ب.تیتر </a:t>
              </a:r>
              <a:r>
                <a:rPr b="0" lang="en-US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pt. 60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cs typeface="B Titr"/>
                </a:rPr>
                <a:t>پررنگ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----- يک سطر فاصله (ب.نازنين 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32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پررنگ) -----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نام و نام خانوادگي نويسنده اول </a:t>
              </a:r>
              <a:r>
                <a:rPr b="0" lang="fa-IR" sz="2700" spc="-1" strike="noStrike" baseline="30000">
                  <a:solidFill>
                    <a:srgbClr val="000000"/>
                  </a:solidFill>
                  <a:latin typeface="Constantia"/>
                  <a:ea typeface="B Nazanin"/>
                </a:rPr>
                <a:t>*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نويسنده دوم، ... در يك يا دو سطر. از ذكر عناويني نظير مهندس و يا دكتر و ... در ابتداي اسامي خودداري شو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نام و نام خانوادگي نويسندگان به صورت کامل ذکر شود. (همراه با پسوند) (ب.نازنين 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32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پررنگ)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10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*- نويسنده مسئول: درجه علمي و رشته تخصصي (يا سمت كاري) نويسنده اول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راست چين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2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- درجه علمي و رشته تخصصي (يا سمت كاري) نويسنده دوم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راست چين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آدرس كوتاه نويسنده اول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ايتاليك) ، آدرس پست الكترونيك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Times New Roman 27 pt. Italic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آدرس كوتاه نويسنده دوم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ايتاليك) ، آدرس پست الكترونيك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Times New Roman 27 pt. Italic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2"/>
          <p:cNvSpPr/>
          <p:nvPr/>
        </p:nvSpPr>
        <p:spPr>
          <a:xfrm>
            <a:off x="11241000" y="10191600"/>
            <a:ext cx="9360000" cy="132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به منظور يكسان سازي مجموع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مقالات اين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لازم است كه همة مقالا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 طرحي يكسان و كاملاً هماهنگ تهيه و تايپ شوند.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(البته رنگ بندی پوستر به سلیقه نگارنده مقاله بستگی پیدا می‏کند).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ين راهنما به نويسندگان مقالات كمك مي‌كند تا مقالة خود را با طرح مورد قبو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 برای ارائه به صورت 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تهيه نمايند. توجه شود كه فرمت ظاهري اين راهنما و نگارش آن منطبق بر دستورالعمل مورد قبو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ست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اندازه پوستر بای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7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در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10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سانتیمتر باشد. ضروری است عنوان همایش و لوگوهای بالای پوستر حفظ شود و تغییر نکند. سایر زیباسازی ها در متن به شرط رعایت ساختار پیشنهادی زیر آزاد اس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برا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ساخت 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، فقط از نرم افزار مايكروساف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اورپوینت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نسخة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200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به بعد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استفاده كنيد. عنوان همة بخش‌ها با قلم ب.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تی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و انداز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Nazanin"/>
              </a:rPr>
              <a:t>pt.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5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پررنگ و عنوان زيربخش‌ها با قلم ب.نازنين و انداز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28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پررنگ تايپ شود. عنوان هر بخش يا زيربخش،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 يك خط خالي فاصله از انتهاي متن بخش قبل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تايپ و شماره‌گذاري شود.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خط اول همة پاراگراف‌ها بايد داراي تورفتگي به اندازة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cm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1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شد.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برای کلیه متون از حالت پاراگراف از راست (متن از راست به چپ)- حالت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Justify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- و براي تدوين بخشهای لاتين نيز بايستي کليه موارد مندرج در اين دستورالعمل رعايت شود و برای نگارش بخش های لاتین بايد از قلم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Times New Roma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 اندازه فونت يکي کمتر از حالت فارسي </a:t>
            </a:r>
            <a:r>
              <a:rPr b="1" lang="fa-IR" sz="20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معادل آن استفاده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833400" y="15791040"/>
            <a:ext cx="881532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نتایج و تحلیل</a:t>
            </a:r>
            <a:r>
              <a:rPr b="1" lang="fa-IR" sz="4500" spc="-1" strike="noStrike">
                <a:solidFill>
                  <a:srgbClr val="000000"/>
                </a:solidFill>
                <a:latin typeface="Arial"/>
                <a:ea typeface="B Titr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وجود بخش جمع‌بندي و نتيجه‌گيري پس از متن اصلي مقاله الزامي است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Majalla U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1258920" y="23095080"/>
            <a:ext cx="881532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 rtl="1">
              <a:spcBef>
                <a:spcPts val="3626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منابع اصلی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برخی ا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مراجع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صلی د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ر انتهاي مقاله به همان ترتيبي كه در متن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پوستر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به آنها ارجاع مي‌شود، مي‌آي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12912840" y="8985240"/>
            <a:ext cx="58212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چکیده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(حداکثر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120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 کلمه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833400" y="9085320"/>
            <a:ext cx="82692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Titr"/>
              </a:rPr>
              <a:t>ادامه مبانی نظری و متن اصلی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2706200" y="19810440"/>
            <a:ext cx="6429600" cy="1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سوال و هدف تحقیق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0"/>
          <p:cNvSpPr/>
          <p:nvPr/>
        </p:nvSpPr>
        <p:spPr>
          <a:xfrm>
            <a:off x="11633040" y="23095080"/>
            <a:ext cx="85759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مبانی نظری و متن اصلی مقاله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0" y="-108000"/>
            <a:ext cx="212421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411800" y="11380680"/>
            <a:ext cx="13817520" cy="11028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464000" y="8569440"/>
            <a:ext cx="138780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0:20:37Z</dcterms:created>
  <dc:creator>Ethan Shulda</dc:creator>
  <dc:description>©MegaPrint Inc. 2009</dc:description>
  <dc:language>en-US</dc:language>
  <cp:lastModifiedBy>User</cp:lastModifiedBy>
  <dcterms:modified xsi:type="dcterms:W3CDTF">2015-12-15T10:50:16Z</dcterms:modified>
  <cp:revision>94</cp:revision>
  <dc:subject/>
  <dc:title>70x100 cm vertical poster template</dc:title>
</cp:coreProperties>
</file>