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D9E0-5A88-4803-AA1B-052CC0EAB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E07C-D829-4681-91B5-D5C588700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EC0-C523-4257-8622-C1DF4A75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50F-40B8-492B-AA1F-769E0CDC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25F-E6E2-4C77-B69F-51A7D8620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A6B-9E1E-4725-8D4B-0F575EA31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3BFE-C87D-4E0B-B4D2-FA442F38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C8C9-AAE8-4887-AAEC-DE44600C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60F6-7F9D-4DB2-8EA4-448D18E5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959F-E7FB-4847-B77D-957BFC43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072B-5292-4B40-A285-53810829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15E5-1F14-4D0C-94A0-61059444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F842-8AA2-4ED6-A2C6-F638F072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221-C16D-44A6-A25A-16369A63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8344-F0C5-4B21-B8B0-0FB7C4C1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66FE-22E7-4F10-B7A7-58EE02AF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F5C7-42E7-465B-9EBE-1EBBAB39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3D43-6334-413E-971B-C79AE272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234A-04FE-491A-97C2-3E92A5A4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DA757-984F-4DE7-8632-987A8B71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EE1E-84D9-455A-B207-FE33492A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3E114-D3BF-444D-9E9E-E6A20B81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E6614-402B-4A91-8707-F3EA4663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A70D1-92E0-406D-B2A2-E0BE715C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A3F-1129-4D0B-B93E-202C74E0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909BF-D472-46E4-AA75-F3BE1643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FE4B-CF32-4416-8EE9-E9A3C979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E51E-54F5-4D40-818A-DBADF09B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D4944-771B-41EE-9F67-09AE7879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1D563-3CCE-4623-845A-CC3F0D7F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424E-9BDB-4B67-852C-80570EF5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56AC-AF60-4D3A-8329-AFCCCEBE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8EEED-BB22-485F-86BC-C163B3D0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D49E8-609D-4846-A468-6E7CB778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17D8D-4E2E-40E7-9BC6-1ECF0811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B75-75E4-4EB9-A9E7-4276223C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4D211-B843-42D6-80BC-1E9FF922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8540-AAC9-4BAE-8D02-1CFAA0E4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5D687-EF08-4C91-AB06-21B8BC83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E2A0D-12AC-4846-A74D-8A07DF72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D9854-C7DC-41A7-AB24-851F26B8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BCE14-6320-44D5-8AB8-9CC964BE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FBAE5-9755-4DFF-BFBA-D192B0B9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D76F1-2C4A-456A-A517-F3969BF7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542B4-621E-4517-9AF1-A9174BCB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E05BB-EE25-4E0F-983B-8BEED54A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92B-D161-4424-AF08-931F9C6E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C70E-6CA2-4A7D-A20A-1EB11009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E8FD-69C2-4A8C-8566-067C76BA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681F6-B6F7-4258-95F6-CD5C0A34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E48E5-D995-4099-A10B-E698E20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31675-9EAE-42AC-A0AB-C59BEC74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B2C49-1ADB-45B2-94C9-A3D07ADF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0CDD9-9CA1-43C1-A8BB-454294B9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04E86-6B64-44E0-9A36-47FC063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269FF-6CFD-47FE-9749-8E866D85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92D66-8743-4AF1-8DC4-1DCA2C9C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4BE-8AFF-4F65-A2DB-A4AC27A4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DEC97-B7EF-4873-AA42-C5D06DFA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2423A-0587-417D-AD8C-29174B42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06F15-69E7-48E6-BEC6-14618EB7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090D-A52F-443C-8CC2-CFA26D67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05910-0418-4064-9C0C-88E1AFD2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B8210-7518-4616-B580-B7DDDB1A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C3704-0922-4680-8195-A6B3442E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5E16B-68E3-4B93-8F3D-BBBF359D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87A8B-656A-425B-85FE-E0170B83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FA192-5895-447C-8B07-B1F01719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2ED-AFD0-44D6-B566-0546ED88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51BC6-62F0-4A4B-BDD7-762B53FB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8C809-DFF8-4F3C-8CAE-48383C16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139A1-2B92-4D8A-80E9-CD8698B5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D0F73-62BD-4542-856C-6428D0B0A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F0873-1DC7-43C9-A4EE-38B31D8F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CF82B-59F5-443E-91AB-219D6043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F7A74-DBBA-496F-B81C-ADDC2817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3D16B-A60F-47EA-9B3E-BC781460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56808-06C7-4218-9FEB-4AFA94AE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D6FAF-4EC5-42BA-8376-84362D0F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5AD-1900-478C-909F-4C46C81B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8EC9C-D4C7-453E-ABF5-E372089C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2A9E5-F0E9-42F3-80AB-0F281BF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D486E-33D4-4781-8F15-A4D84D72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2AFB8-F1D9-4CCD-BF55-CD38BABB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E44A7-A1A0-4AC4-852F-9468AC36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B7278-EAE7-4916-BD01-CCEE04C9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2D6AF-3393-4B4E-95EE-3D424093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565C6-11E0-4AF2-8F55-17529ECC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ADAC8-8B97-46DF-9CA5-E05AD24A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F29D9-8BC8-4203-903D-265CDEE0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E2A-759C-488C-A7D2-56A88613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A9D13-881C-4711-969B-97578EBA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8FCC0-CD32-4F95-BCAA-664FD1A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DC428-6D95-49E6-9FFD-47B14DB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1FD84-F2E6-4E3F-B733-C5FA7F15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D0902-7807-4E4A-9201-DF140251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9D2C7-24F8-4454-96E1-0B4DF8A5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01DE5-D35E-4CC4-BD28-7C94E7AC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8D10-F6E1-4C8B-801C-972FC5F59AC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19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EF14-9D7C-4B9A-8809-F3AADA7C027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2CF9-3DEF-45E6-97C5-62E7AE4F2C9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BF2F-7522-450C-8B47-2A0A6F94700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C0E-29EF-43F6-B362-242E9BE8364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C55F-B9B1-4DE6-BC23-12298E2855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8D5B-29AF-41B8-BD3E-0B4D92DFEF8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Right Triangle 15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Straight Connector 16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BC17-81BE-4B0F-B9C0-025838A5721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689040" y="3889440"/>
            <a:ext cx="8076960" cy="15732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9765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2133720" y="2755800"/>
            <a:ext cx="487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2  Titr"/>
              </a:rPr>
              <a:t>عنوان مقال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در صفحات بعد نيازی به لوگو، آرم دانشگاه و عنوان همايش نمي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زمان ارائه پاورپوينت حداکثر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0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دقيقه است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سعی شود تعداد اسلايدها بيش از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5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اسلايد ن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هر کدام از نويسندگان مقاله مجاز به ارائه مقاله می باشن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20:02:19Z</dcterms:created>
  <dc:creator>sam system</dc:creator>
  <dc:description/>
  <dc:language>en-US</dc:language>
  <cp:lastModifiedBy>User</cp:lastModifiedBy>
  <dcterms:modified xsi:type="dcterms:W3CDTF">2015-12-15T10:14:55Z</dcterms:modified>
  <cp:revision>32</cp:revision>
  <dc:subject/>
  <dc:title>علي شير افروس، استاديار گروه مهندسي آب، دانشگاه آزاد اسلامي واحد دزفول</dc:title>
</cp:coreProperties>
</file>