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21243925" cy="30243463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204640" y="766800"/>
            <a:ext cx="2693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B10E-EDC0-49D0-AB60-7502E1317DD3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8B2-375E-4936-AADC-E4246530A4CC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205000" y="766800"/>
            <a:ext cx="2693880" cy="383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98F-7B0E-4706-8093-F4E339BC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0FD-92D1-4DF2-858A-D5973363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A70-39BD-43A9-ADBC-FF28B1AE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E1F-9B31-4B90-B9CC-E5DB51A1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2E8E-FF45-40BD-A284-7B91D7D2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C651-448B-4BB2-8ED0-8B055EFF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F38F-CF2D-4563-8871-CBE9B034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EF7C-E157-46EB-B5E9-9BF6BD29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0E33-C23B-46BD-8FB0-080A485D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D5D9-3A64-4F2E-8040-35C49498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2C7C-299F-4A27-A4D1-07135AE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2AE-D553-46CC-AFB1-FDA77BA1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7D1C-6124-4660-9C6E-9F994A77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B003-FA16-4D03-AD51-87E0B2A0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9877-A133-48EC-8FF6-8A7AF0B0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8F84-19A8-4204-9152-9626B9EB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97DE-0A06-46A3-8166-24362DA9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E9139-FAFC-402D-AC9A-D8C6C67E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AA88D-8A70-449E-BA55-26FE72C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EA05-F6E8-4251-BFDB-6B86FBF3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7507-6819-4EA3-B4BD-6DA66BD9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D169-A4FF-4E46-8887-E66DBCEA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879-03DC-433F-8DB7-776E8DA0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5BC2-23FF-41CB-8444-EA419BC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880D-804B-4DBC-B0BB-8845CAEA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62BC-8968-46B1-93BC-2DB41087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2363-BA01-4FA5-B17B-D2E22531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3378D-C61C-4BA2-8D20-6A4037CC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CC2C4-2786-4707-8D48-1EDB38FC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58DE-62D9-4D09-BC14-066251A0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4FEF-C2B4-434E-ACCE-6AF09B5D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1DFC-DC23-4E5C-8DA8-23360ACC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B75B0-DDC1-455D-9EDD-C831586E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90C-CC8F-422C-93BE-E673E735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007E-1F29-4807-A023-B1804107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96B0-F805-4349-8684-BD5035BB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7AA0-308C-449D-8BC0-DAAEACFB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CF6E-A2D4-4AD4-A7D1-E260DE3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5F6B9-7E02-4E5D-9AFE-0D98353E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FD2A-EBF3-4229-9CA5-6BA06A32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0DB7E-8103-41E9-9C60-3BECBF7B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6AD7C-E9D2-45CE-9655-22E184CF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87A13-8831-4A7A-A38B-08A9ABB6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98B-0725-4671-9B02-04AE119D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87C-38E3-42C8-AC41-5D118349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85A-134F-4501-98AC-AAF7FDEF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0AE7-7000-4037-B9CA-CFD06974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4DC-E640-44E5-9A02-5470BF36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517-06D0-4379-8355-CBDAFE135D4D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6F8B-15C3-478C-8B09-5F5281F791A0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6F41-A3C9-4F92-BC84-B6F853E05F8B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7354800" y="4885200"/>
            <a:ext cx="12214440" cy="18146880"/>
          </a:xfrm>
          <a:custGeom>
            <a:avLst/>
            <a:gdLst/>
            <a:ahLst/>
            <a:rect l="l" t="t" r="r" b="b"/>
            <a:pathLst>
              <a:path w="12214225" h="18146713">
                <a:moveTo>
                  <a:pt x="0" y="0"/>
                </a:moveTo>
                <a:lnTo>
                  <a:pt x="11768894" y="0"/>
                </a:lnTo>
                <a:lnTo>
                  <a:pt x="12214225" y="445331"/>
                </a:lnTo>
                <a:lnTo>
                  <a:pt x="12214225" y="18146713"/>
                </a:lnTo>
                <a:lnTo>
                  <a:pt x="0" y="181467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ctr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8594360" y="23635080"/>
            <a:ext cx="360360" cy="6858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21960" y="25650720"/>
            <a:ext cx="21286800" cy="4592880"/>
          </a:xfrm>
          <a:custGeom>
            <a:avLst/>
            <a:gdLst>
              <a:gd name="textAreaLeft" fmla="*/ 0 w 21286800"/>
              <a:gd name="textAreaRight" fmla="*/ 21287160 w 21286800"/>
              <a:gd name="textAreaTop" fmla="*/ 360 h 4592880"/>
              <a:gd name="textAreaBottom" fmla="*/ 4593600 h 4592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10179000" y="27428040"/>
            <a:ext cx="11063160" cy="2814840"/>
          </a:xfrm>
          <a:custGeom>
            <a:avLst/>
            <a:gdLst>
              <a:gd name="textAreaLeft" fmla="*/ 0 w 11063160"/>
              <a:gd name="textAreaRight" fmla="*/ 11063520 w 11063160"/>
              <a:gd name="textAreaTop" fmla="*/ -360 h 2814840"/>
              <a:gd name="textAreaBottom" fmla="*/ 2814840 h 28148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8763920" y="28030320"/>
            <a:ext cx="141588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6FFD-077A-41FB-9ABE-CE61CB2447F9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34"/>
          <p:cNvGrpSpPr/>
          <p:nvPr/>
        </p:nvGrpSpPr>
        <p:grpSpPr>
          <a:xfrm>
            <a:off x="264960" y="4680000"/>
            <a:ext cx="20669400" cy="25119000"/>
            <a:chOff x="264960" y="4680000"/>
            <a:chExt cx="20669400" cy="25119000"/>
          </a:xfrm>
        </p:grpSpPr>
        <p:grpSp>
          <p:nvGrpSpPr>
            <p:cNvPr id="203" name="Group 25"/>
            <p:cNvGrpSpPr/>
            <p:nvPr/>
          </p:nvGrpSpPr>
          <p:grpSpPr>
            <a:xfrm>
              <a:off x="264960" y="8768880"/>
              <a:ext cx="20669400" cy="21030120"/>
              <a:chOff x="264960" y="8768880"/>
              <a:chExt cx="20669400" cy="21030120"/>
            </a:xfrm>
          </p:grpSpPr>
          <p:sp>
            <p:nvSpPr>
              <p:cNvPr id="204" name="AutoShape 50"/>
              <p:cNvSpPr/>
              <p:nvPr/>
            </p:nvSpPr>
            <p:spPr>
              <a:xfrm>
                <a:off x="264960" y="8794440"/>
                <a:ext cx="9995040" cy="210013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01320"/>
                  <a:gd name="textAreaBottom" fmla="*/ 20796480 h 21001320"/>
                </a:gdLst>
                <a:ahLst/>
                <a:rect l="textAreaLeft" t="textAreaTop" r="textAreaRight" b="textAreaBottom"/>
                <a:pathLst>
                  <a:path w="21600" h="45385">
                    <a:moveTo>
                      <a:pt x="1512" y="0"/>
                    </a:moveTo>
                    <a:arcTo wR="1512" hR="1512" stAng="16200000" swAng="-5400000"/>
                    <a:lnTo>
                      <a:pt x="0" y="43873"/>
                    </a:lnTo>
                    <a:arcTo wR="1512" hR="1512" stAng="10800000" swAng="-5400000"/>
                    <a:lnTo>
                      <a:pt x="20088" y="4538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"/>
              <p:cNvSpPr/>
              <p:nvPr/>
            </p:nvSpPr>
            <p:spPr>
              <a:xfrm>
                <a:off x="10939320" y="8768880"/>
                <a:ext cx="9995040" cy="210301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30120"/>
                  <a:gd name="textAreaBottom" fmla="*/ 20825280 h 21030120"/>
                </a:gdLst>
                <a:ahLst/>
                <a:rect l="textAreaLeft" t="textAreaTop" r="textAreaRight" b="textAreaBottom"/>
                <a:pathLst>
                  <a:path w="21600" h="45447">
                    <a:moveTo>
                      <a:pt x="1512" y="0"/>
                    </a:moveTo>
                    <a:arcTo wR="1512" hR="1512" stAng="16200000" swAng="-5400000"/>
                    <a:lnTo>
                      <a:pt x="0" y="43935"/>
                    </a:lnTo>
                    <a:arcTo wR="1512" hR="1512" stAng="10800000" swAng="-5400000"/>
                    <a:lnTo>
                      <a:pt x="20088" y="45447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ounded Rectangle 12"/>
            <p:cNvSpPr/>
            <p:nvPr/>
          </p:nvSpPr>
          <p:spPr>
            <a:xfrm>
              <a:off x="3043080" y="4680000"/>
              <a:ext cx="15454440" cy="387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(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عنوان مقاله حداکثر در 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12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 کلمه با قلم ب.تیتر </a:t>
              </a:r>
              <a:r>
                <a:rPr b="0" lang="en-US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pt. 60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پررنگ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---- يک سطر فاصله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----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ه اول </a:t>
              </a:r>
              <a:r>
                <a:rPr b="0" lang="fa-IR" sz="2700" spc="-1" strike="noStrike" baseline="30000">
                  <a:solidFill>
                    <a:srgbClr val="000000"/>
                  </a:solidFill>
                  <a:latin typeface="Constantia"/>
                  <a:ea typeface="B Nazanin"/>
                </a:rPr>
                <a:t>*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نويسنده دوم، ... در يك يا دو سطر. از ذكر عناويني نظير مهندس و يا دكتر و ... در ابتداي اسامي خودداري شو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گان به صورت کامل ذکر شود. (همراه با پسوند)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10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*- نويسنده مسئول: درجه علمي و رشته تخصصي (يا سمت كاري)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2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 درجه علمي و رشته تخصصي (يا سمت كاري)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2"/>
          <p:cNvSpPr/>
          <p:nvPr/>
        </p:nvSpPr>
        <p:spPr>
          <a:xfrm>
            <a:off x="11241000" y="10191600"/>
            <a:ext cx="9360000" cy="132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ه منظور يكسان سازي مجموع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قالات اين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لازم است كه همة مقال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 طرحي يكسان و كاملاً هماهنگ تهيه و تايپ شوند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(البته رنگ بندی پوستر به سلیقه نگارنده مقاله بستگی پیدا می‏کند)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ين راهنما به نويسندگان مقالات كمك مي‌كند تا مقالة خود را با طرح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برای ارائه به صور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هيه نمايند. توجه شود كه فرمت ظاهري اين راهنما و نگارش آن منطبق بر دستورالعمل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ست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اندازه پوستر بای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10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سانتیمتر باشد. ضروری است عنوان همایش و لوگوهای بالای پوستر حفظ شود و تغییر نکند. سایر زیباسازی ها در متن به شرط رعایت ساختار پیشنهادی زیر آزاد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ا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اخ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، فقط از نرم افزار مايكروساف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اورپوین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نسخة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00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به بع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استفاده كنيد. عنوان همة بخش‌ها با قلم ب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تی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و انداز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pt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5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پررنگ و عنوان زيربخش‌ها با قلم ب.نازنين و انداز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پررنگ تايپ شود. عنوان هر بخش يا زيربخش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يك خط خالي فاصله از انتهاي متن بخش قب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ايپ و شماره‌گذاري شود.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خط اول همة پاراگراف‌ها بايد داراي تورفتگي به اندازة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cm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شد.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برای کلیه متون از حالت پاراگراف از راست (متن از راست به چپ)- حال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Justify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- و براي تدوين بخشهای لاتين نيز بايستي کليه موارد مندرج در اين دستورالعمل رعايت شود و برای نگارش بخش های لاتین بايد از قل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Times New Roma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اندازه فونت يکي کمتر از حالت فارسي </a:t>
            </a:r>
            <a:r>
              <a:rPr b="1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معادل آن استفاده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33400" y="15791040"/>
            <a:ext cx="8815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نتایج و تحلیل</a:t>
            </a:r>
            <a:r>
              <a:rPr b="1" lang="fa-IR" sz="45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وجود بخش جمع‌بندي و نتيجه‌گيري پس از متن اصلي مقاله الزامي اس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ajalla U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58920" y="23095080"/>
            <a:ext cx="88153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نابع اصلی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رخی ا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مراجع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صلی 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ر انتهاي مقاله به همان ترتيبي كه در متن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وستر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آنها ارجاع مي‌شود، مي‌آي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2912840" y="8985240"/>
            <a:ext cx="5821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چکید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(حداکثر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12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 کلم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833400" y="9085320"/>
            <a:ext cx="82692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Titr"/>
              </a:rPr>
              <a:t>ادامه مبانی نظری و متن اصلی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706200" y="19810440"/>
            <a:ext cx="642960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سوال و هدف تحقی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1633040" y="23095080"/>
            <a:ext cx="8575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بانی نظری و متن اصلی مقال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21242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411800" y="11380680"/>
            <a:ext cx="13817520" cy="110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464000" y="8569440"/>
            <a:ext cx="138780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than Shulda</dc:creator>
  <dc:description>©MegaPrint Inc. 2009</dc:description>
  <dc:language>en-US</dc:language>
  <cp:lastModifiedBy>User</cp:lastModifiedBy>
  <dcterms:modified xsi:type="dcterms:W3CDTF">2015-12-15T10:50:16Z</dcterms:modified>
  <cp:revision>94</cp:revision>
  <dc:subject/>
  <dc:title>70x100 cm vertical poster template</dc:title>
</cp:coreProperties>
</file>