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D7528-4D0B-41CC-821C-71DCF3C3A7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1D96E-ADF4-4F80-853E-C10BA07AFD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7A40-9884-4BF7-8F25-4BE88B9A6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E4A8-F3B6-4648-8FCC-8F84CA584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95EA-F6A6-4479-A38E-7CE8E20C0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D2A1-43CE-485A-9058-740EAE0F6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B14CE-F36C-43F0-B97C-DAC95F69C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09461-842E-43E9-98BA-B1F24F732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481B0-B662-40CA-9C7A-8435CAADF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B010B-E96F-45B5-AC3A-2135A930C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05D68-CCC8-4389-9359-DB4249F21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B7A1A-519B-4815-A2C0-5D4FCB9ED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76C90-1C0C-4867-8505-029B73F81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7FCD-96F4-465C-B0A4-7BB432C14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566E3-BF52-46DF-B54C-8549FD9FC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2C232-617C-4D5A-BFA1-EE5A2748B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315E0-A536-46C8-81E5-F5B2D3BF7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E4207-3261-417D-B2DF-3F47AC48A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33401-8BFB-4C2F-A3B9-920A44B50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E4795-7735-4E35-9654-A886DE777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AEA92-2750-4D19-9650-174726B6A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42C0D-3D8D-4F0D-B2E4-58B29E253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BF9F1-AA4B-4D9D-9C8B-6EDC33F6D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6A61A-0AB0-4A7C-8A2B-1DD5268FC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A049-0EEE-45B5-80A6-9CA809E65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13C59-0818-4E98-BF48-FE061F972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892BC-31BE-4E96-B60B-8205FB08C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46051-8975-4762-8996-457C69818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E35FE-696D-4C33-84C3-45B68F015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CEF5D-7FA1-4FFB-B269-B08CA2145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36291-3E92-449A-84F2-BB0F10893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A9DA1-A98F-4B10-9BD4-B8287DD29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D4F89-E2B7-4113-A704-2451D7C3C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6C3AC-BEB9-4266-A76C-EBA25FE47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427A4-390D-47B6-A1E7-49404695C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5A17-3B84-4999-92E2-F02B6758D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60376-DD33-4162-91C9-B6277EB2B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CD0C0E-3E11-4D4D-9271-62A1E8C82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9423D-6190-4B8A-ABDE-C3CE230F4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F11F7-7C3C-4616-AA10-A2DC6AA59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EC294-CA30-4A08-9B63-82C27BF8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F981E-60CB-4789-878A-658B0C0F4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28EF5-2828-408E-8CF8-23CDD4FA7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F0A56-2EE4-4E6A-ADD4-F2E9FF018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F8802-7AE2-4E5A-BE3A-0AE42B2B0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22A145-08B4-4336-84EC-E0EAAA204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5D29-2B42-453A-AD7E-1C67A0EC8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E453AF-BDFD-4F5D-B05B-79AB6BB68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40C45E-3D5C-4FD4-9684-1C9E9936E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0DCDC7-1A2C-49D8-8A8D-BCF24749A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DCC162-6830-4542-B4C4-B4221CB72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4EC694-5976-4583-8E36-37B190831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C59792-0C66-4F10-8E1E-666582A64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4EA4C3-FA76-4689-9E2C-4674D1552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76400D-A655-449A-B87A-23B3FC09E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0481F0-EBEF-40CF-993A-14BA75957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4BD724-81D0-4A7C-8A41-6EF612950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3A13-AAD6-4D6C-A9AA-1857DE5A4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6A8FDD-07B4-4C4C-B337-59EEF786E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326036-89CA-40E3-A994-2B07ABFE3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D65328-B260-4068-B967-610807D9C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EFAB68-0BA1-41D4-9ED9-D3CF05077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1CC072-180E-4DAE-AFA9-03EC6A928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486C8B-E5CE-4500-A904-5C4497441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719686-6283-47B3-BF24-4983CB5A6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2EFF8C-3487-427A-BEC8-9F9C11739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ECB84D-B6B6-42C3-8DAB-7716F7B96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E52BA2-B417-44A9-88E5-B3CF05AB1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BDEC-E3D3-4708-AE8B-34EBB9D11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4C1449-62A5-4A0D-BE36-DCA86717F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F6E7E6-9CFC-44D8-BB01-FFEBCEEB9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4584C1-F85D-4DB3-983D-AC56DA14E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1ABEFA-7E3A-4686-8A0A-6C55550B6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FAD786-B974-42BE-8E60-C1BA1A742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D40814-05A9-45D7-920E-D26E69B68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630194-7927-4FED-AF54-FE7F6698A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FD4A0C-0F43-419C-B4E7-A7B90A5D6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E0C67F-319B-4634-AE59-F6B103511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59189D-3BBD-4517-8A33-964E72B68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B4CF-502F-4787-B48D-73E76B3E0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9C53F6-D56B-4FE0-871A-8855554B1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BFC9B9-22CC-4D9D-A76B-49FFBF090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D670BA-C457-4623-8F25-007B96921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314DC8-9003-4E00-9350-3119F14D2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92FD3B-0BE8-4ABA-B62B-DB8D2447D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50E193-AE9E-403A-BCCA-6307732E5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491438-1D51-42E8-A2B1-D1D886424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162B33-F6E5-4483-BADD-38C47FC26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0C45B9-D4EE-4EF5-9AE1-1EF157FF6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1A6DD9-4C4D-464B-A58B-3B72B8340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F880-1A00-4154-8FD5-AFB729A4D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E4F596-BBE8-4178-9173-DE2AE8A33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B050EE-5828-4A22-90E9-0F2E98C3E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A082EA-4A01-4F45-9DE8-F8BD03549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BC1CC6-102C-4D01-B012-E5402B2C0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B80479-71C8-4CDA-B89D-51573B494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DD7404-4748-4376-AD6E-897B08637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7C1A35-7274-45B3-AE28-2F38080BE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e9f4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C5EB1-FEB5-46DD-BFA6-5FDE2A512332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e9f4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3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55" name="Freef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Freef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8" name="Freeform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0" name="Straight Connector 19" descr=""/>
            <p:cNvPicPr/>
            <p:nvPr/>
          </p:nvPicPr>
          <p:blipFill>
            <a:blip r:embed="rId5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75DE7-BCD9-42EF-9D0A-1EB04F7114BD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f3f3f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05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8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Chevron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A9E2D-1F08-4371-9E73-A523FB099942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f3f3f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54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6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BD0AC-C14C-4B2D-87F0-5BA30BB633D9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e9f4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01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3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5DEDD-3B05-4B22-99B4-CCED52890AAE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f3f3f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48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0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EC440-E63B-4C5D-A277-28078C35BABE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e9f4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95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7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C40A0-C8D3-4512-AE05-9398B0A1740C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f3f3f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42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4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45" name="Freeform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reeform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Right Triangle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48" name="Right Triangle 15" descr=""/>
            <p:cNvPicPr/>
            <p:nvPr/>
          </p:nvPicPr>
          <p:blipFill>
            <a:blip r:embed="rId4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0" name="Straight Connector 16" descr=""/>
          <p:cNvPicPr/>
          <p:nvPr/>
        </p:nvPicPr>
        <p:blipFill>
          <a:blip r:embed="rId5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51" name="Chevron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Chevron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D7713-0440-45BF-9026-801973DE277E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Title 1" descr=""/>
          <p:cNvPicPr/>
          <p:nvPr/>
        </p:nvPicPr>
        <p:blipFill>
          <a:blip r:embed="rId1"/>
          <a:stretch/>
        </p:blipFill>
        <p:spPr>
          <a:xfrm>
            <a:off x="689040" y="3889440"/>
            <a:ext cx="8076960" cy="1573200"/>
          </a:xfrm>
          <a:prstGeom prst="rect">
            <a:avLst/>
          </a:prstGeom>
          <a:ln w="0">
            <a:noFill/>
          </a:ln>
        </p:spPr>
      </p:pic>
      <p:sp>
        <p:nvSpPr>
          <p:cNvPr id="402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97656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5"/>
          <p:cNvSpPr/>
          <p:nvPr/>
        </p:nvSpPr>
        <p:spPr>
          <a:xfrm>
            <a:off x="2133720" y="2755800"/>
            <a:ext cx="48765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f0000"/>
                </a:solidFill>
                <a:latin typeface="Arial"/>
                <a:cs typeface="2  Titr"/>
              </a:rPr>
              <a:t>عنوان مقال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53352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700" spc="-1" strike="noStrike">
                <a:solidFill>
                  <a:srgbClr val="000000"/>
                </a:solidFill>
                <a:latin typeface="Lucida Sans Unicode"/>
                <a:cs typeface="2  Nazanin"/>
              </a:rPr>
              <a:t>در صفحات بعد نيازی به لوگو، آرم دانشگاه و عنوان همايش نميباشد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700" spc="-1" strike="noStrike">
                <a:solidFill>
                  <a:srgbClr val="000000"/>
                </a:solidFill>
                <a:latin typeface="Lucida Sans Unicode"/>
                <a:cs typeface="2  Nazanin"/>
              </a:rPr>
              <a:t>زمان ارائه پاورپوينت حداکثر </a:t>
            </a:r>
            <a:r>
              <a:rPr b="0" lang="fa-IR" sz="2700" spc="-1" strike="noStrike">
                <a:solidFill>
                  <a:srgbClr val="000000"/>
                </a:solidFill>
                <a:latin typeface="Lucida Sans Unicode"/>
                <a:ea typeface="2  Nazanin"/>
              </a:rPr>
              <a:t>10</a:t>
            </a:r>
            <a:r>
              <a:rPr b="0" lang="fa-IR" sz="2700" spc="-1" strike="noStrike">
                <a:solidFill>
                  <a:srgbClr val="000000"/>
                </a:solidFill>
                <a:latin typeface="Lucida Sans Unicode"/>
                <a:ea typeface="2  Nazanin"/>
              </a:rPr>
              <a:t> دقيقه است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700" spc="-1" strike="noStrike">
                <a:solidFill>
                  <a:srgbClr val="000000"/>
                </a:solidFill>
                <a:latin typeface="Lucida Sans Unicode"/>
                <a:cs typeface="2  Nazanin"/>
              </a:rPr>
              <a:t>سعی شود تعداد اسلايدها بيش از </a:t>
            </a:r>
            <a:r>
              <a:rPr b="0" lang="fa-IR" sz="2700" spc="-1" strike="noStrike">
                <a:solidFill>
                  <a:srgbClr val="000000"/>
                </a:solidFill>
                <a:latin typeface="Lucida Sans Unicode"/>
                <a:ea typeface="2  Nazanin"/>
              </a:rPr>
              <a:t>15</a:t>
            </a:r>
            <a:r>
              <a:rPr b="0" lang="fa-IR" sz="2700" spc="-1" strike="noStrike">
                <a:solidFill>
                  <a:srgbClr val="000000"/>
                </a:solidFill>
                <a:latin typeface="Lucida Sans Unicode"/>
                <a:ea typeface="2  Nazanin"/>
              </a:rPr>
              <a:t> اسلايد نباشد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700" spc="-1" strike="noStrike">
                <a:solidFill>
                  <a:srgbClr val="000000"/>
                </a:solidFill>
                <a:latin typeface="Lucida Sans Unicode"/>
                <a:cs typeface="2  Nazanin"/>
              </a:rPr>
              <a:t>هر کدام از نويسندگان مقاله مجاز به ارائه مقاله می باشند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3T20:02:19Z</dcterms:created>
  <dc:creator>sam system</dc:creator>
  <dc:description/>
  <dc:language>en-US</dc:language>
  <cp:lastModifiedBy>User</cp:lastModifiedBy>
  <dcterms:modified xsi:type="dcterms:W3CDTF">2015-12-15T10:14:55Z</dcterms:modified>
  <cp:revision>32</cp:revision>
  <dc:subject/>
  <dc:title>علي شير افروس، استاديار گروه مهندسي آب، دانشگاه آزاد اسلامي واحد دزفول</dc:title>
</cp:coreProperties>
</file>